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EDA-95A1-45DB-B617-B0113F6F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F51-91C9-4838-802F-0E258F18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B52-8789-4F4F-85D6-3A920419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E6A-F62C-4A97-A641-7129C38D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3EF4-EAC4-4088-9348-B2AF5FD3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15C-395F-4FD8-8F3A-23B327EF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167-ACD8-4E2B-B3FF-733D28AB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22A-E671-48B0-BC49-ABA41820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3736-10C1-4BAD-82FC-5B613A93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7DDB-85BD-4A19-B3C1-F8E44A71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8D54-38FC-4E22-BA0F-7BDB2C57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48E-C756-4902-8538-6D51F28E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4118-3488-436F-9350-AF66EB830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mixes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700" spc="-1" strike="noStrike">
                <a:solidFill>
                  <a:srgbClr val="000000"/>
                </a:solidFill>
                <a:latin typeface="Arial"/>
              </a:rPr>
              <a:t>buses</a:t>
            </a:r>
            <a:endParaRPr b="0" lang="en-US" sz="2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germs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roses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enter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gerbils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cents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expert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benches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babies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asket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hitches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cratche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ladies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shall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700" spc="-1" strike="noStrike">
                <a:solidFill>
                  <a:srgbClr val="000000"/>
                </a:solidFill>
                <a:latin typeface="Arial"/>
              </a:rPr>
              <a:t>bought</a:t>
            </a:r>
            <a:endParaRPr b="0" lang="en-US" sz="2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probably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000000"/>
                </a:solidFill>
                <a:latin typeface="Arial"/>
              </a:rPr>
              <a:t>pleasant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scared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100" spc="-1" strike="noStrike">
                <a:solidFill>
                  <a:srgbClr val="000000"/>
                </a:solidFill>
                <a:latin typeface="Arial"/>
              </a:rPr>
              <a:t>friend</a:t>
            </a:r>
            <a:endParaRPr b="0" lang="en-US" sz="2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dishes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2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500" spc="-1" strike="noStrike">
                <a:solidFill>
                  <a:srgbClr val="000000"/>
                </a:solidFill>
                <a:latin typeface="Arial"/>
              </a:rPr>
              <a:t>stood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sure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birdbath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oder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clerk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700" spc="-1" strike="noStrike">
                <a:solidFill>
                  <a:srgbClr val="000000"/>
                </a:solidFill>
                <a:latin typeface="Arial"/>
              </a:rPr>
              <a:t>herself</a:t>
            </a:r>
            <a:endParaRPr b="0" lang="en-US" sz="2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300" spc="-1" strike="noStrike">
                <a:solidFill>
                  <a:srgbClr val="000000"/>
                </a:solidFill>
                <a:latin typeface="Arial"/>
              </a:rPr>
              <a:t>lilies</a:t>
            </a:r>
            <a:endParaRPr b="0" lang="en-US" sz="3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purse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800" spc="-1" strike="noStrike">
                <a:solidFill>
                  <a:srgbClr val="000000"/>
                </a:solidFill>
                <a:latin typeface="Arial"/>
              </a:rPr>
              <a:t>puppies</a:t>
            </a:r>
            <a:endParaRPr b="0" lang="en-US" sz="1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orner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stories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400" spc="-1" strike="noStrike">
                <a:solidFill>
                  <a:srgbClr val="000000"/>
                </a:solidFill>
                <a:latin typeface="Arial"/>
              </a:rPr>
              <a:t>perches</a:t>
            </a: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armies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4:36:51Z</dcterms:created>
  <dc:creator> </dc:creator>
  <dc:description/>
  <dc:language>en-US</dc:language>
  <cp:lastModifiedBy>teacher</cp:lastModifiedBy>
  <dcterms:modified xsi:type="dcterms:W3CDTF">2010-10-08T16:00:42Z</dcterms:modified>
  <cp:revision>28</cp:revision>
  <dc:subject/>
  <dc:title>king</dc:title>
</cp:coreProperties>
</file>